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B1C07-B460-4919-8A20-510121706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99E62-1052-4F9A-B502-7B595C74D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EBFEE-9FBF-4AC6-A069-0D12E4D27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C5892-18F3-4DD8-BC32-B0900C099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409C2-79FA-4582-9278-9408B5E97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1B14A-03FC-4B48-8EFC-120484617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E7C70-2298-462B-8721-C2A8B1D40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16DCF-8A27-4AE3-8EB2-40E03638B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AEEA1-643B-42D2-AB7D-8EB0D4E2A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346E-2716-406B-8EBB-CA378CB43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87AEF-06F4-4F63-BD55-EBB2EAB5F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13D5A-34A5-42F3-9303-D58E8195F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B4CED0-5C99-4039-A83A-75A551FDC7CD}"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3600" spc="-1" strike="noStrike">
                <a:solidFill>
                  <a:srgbClr val="000000"/>
                </a:solidFill>
                <a:latin typeface="Arial"/>
              </a:rPr>
              <a:t>Variatio Ipsius</a:t>
            </a:r>
            <a:endParaRPr b="0" lang="en-US" sz="3600" spc="-1" strike="noStrike">
              <a:solidFill>
                <a:srgbClr val="000000"/>
              </a:solidFill>
              <a:latin typeface="Arial"/>
            </a:endParaRPr>
          </a:p>
        </p:txBody>
      </p:sp>
      <p:sp>
        <p:nvSpPr>
          <p:cNvPr id="42" name="PlaceHolder 2"/>
          <p:cNvSpPr>
            <a:spLocks noGrp="1"/>
          </p:cNvSpPr>
          <p:nvPr>
            <p:ph type="subTitle"/>
          </p:nvPr>
        </p:nvSpPr>
        <p:spPr>
          <a:xfrm>
            <a:off x="502920" y="1768320"/>
            <a:ext cx="9070920" cy="4384800"/>
          </a:xfrm>
          <a:prstGeom prst="rect">
            <a:avLst/>
          </a:prstGeom>
          <a:noFill/>
          <a:ln w="0">
            <a:noFill/>
          </a:ln>
        </p:spPr>
        <p:txBody>
          <a:bodyPr lIns="0" rIns="0" tIns="176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Variatio Ipsius</a:t>
            </a: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Lorem ipsum dolor sit amet, consectetur adipiscing elit. Proin lacinia cursus congue. Mauris ac nibh nec tortor tempor posuere. Aliquam erat volutpat. Nam dolor orci, eleifend et consectetur malesuada, tincidunt eget tellus. Praesent adipiscing aliquam tortor, eget aliquet lacus vehicula ut. Vivamus sollicitudin quam nec metus fringilla at posuere turpis ullamcorper. Vestibulum turpis eros, sodales ut varius vitae, lacinia at leo. Pellentesque condimentum ultricies lorem, eget placerat lorem ullamcorper vel. Integer id porttitor nulla. Integer nec orci vel massa venenatis faucibus nec sit amet metus. Nulla augue ante, tempus sed tempus at, adipiscing a sem. Aliquam ultrices, augue eu mollis egestas, erat nibh posuere diam, at viverra nulla felis pharetra metus. Quisque id arcu sapien, a fermentum ant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8T16:21:11Z</dcterms:created>
  <dc:creator/>
  <dc:description/>
  <dc:language>en-US</dc:language>
  <cp:lastModifiedBy/>
  <dcterms:modified xsi:type="dcterms:W3CDTF">2019-02-28T16:22:47Z</dcterms:modified>
  <cp:revision>1</cp:revision>
  <dc:subject/>
  <dc:title/>
</cp:coreProperties>
</file>